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8745-695C-438F-BA17-89EDEFB060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Lightn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ning transfers electrons from the atmosphere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build up in clouds because wind causes them to ru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gether (Charging by friction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charges in the clouds push the negative charges in the ground away leaving positive charges on the surface (Charging by inducti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enough negative charge builds up in a cloud, it repels so strongly (second Law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harges) that it jumps through the air (an insulator) and strikes the positivel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d ground or the nearest object (first Law of Electric Charg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ightn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 transfers electrons from the atmosphere to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build up in clouds because wind causes them to ru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gether (Charging by friction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gative charges in the clouds push the negative charges in the ground away leaving positive charges on the surface (Charging by induc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enough negative charge builds up in a cloud, it repels so strongly (second Law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harges) that it jumps through the air (an insulator) and strikes the positive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d ground or the nearest object (first Law of Electric Charg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figure shows how a lightning rod can protect a house from a lightning strik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tal rod is attached to the highest part of the building.  A conductor is connected from the metal rod to a metal plate in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lightning strikes the rod, the conductor carries the negative charges safely into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ning R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igure shows how a lightning rod can protect a house from a lightning strik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tal rod is attached to the highest part of the building.  A conductor is connected from the metal rod to a metal plate in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ghtning strikes the rod, the conductor carries the negative charges safely into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 R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364A-0B01-416A-955A-ECF96780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436D-206B-4D3E-9791-776A6003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6612-E573-498A-834E-AF8C3E13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CCE2-614D-480D-B312-67BC500B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EADC-C8DE-4679-99A6-2FE538E2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CDB2-0C12-4B3A-8899-4FA5B320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0452-7FD2-4DDC-90E5-F8D817B4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A834-13E5-4DEF-B2F2-5F8F0875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D0AF-6A59-4928-ABF7-6D3BC842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185F-8C19-4786-8549-D123F9A6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4FED-0B5E-4B4C-A29F-50EE5E32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426E-BEF3-4376-B404-F40B9CBE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809A-B2A0-474F-B0D7-4C4D900C5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How Lightning </a:t>
            </a: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Works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MPj04004600000[1]"/>
          <p:cNvPicPr/>
          <p:nvPr/>
        </p:nvPicPr>
        <p:blipFill>
          <a:blip r:embed="rId1"/>
          <a:stretch/>
        </p:blipFill>
        <p:spPr>
          <a:xfrm>
            <a:off x="5029200" y="15228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822240" y="1865160"/>
            <a:ext cx="329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108000" y="2438280"/>
            <a:ext cx="90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Lightning transfers electrons from the atmosphere to Ea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Electrons build up in clouds because wind causes them to ru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ogether (Charging by friction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he negative charges in the clouds push the negative charges in the ground away leaving positive charges on the surface (Charging by induc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Once enough negative charge builds up in a cloud, it repels so strongly (second Law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Electric Charges) that it jumps through the air (an insulator) and strikes the positive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charged ground or the nearest object (first Law of Electric Charg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N00110.wav" descr=""/>
          <p:cNvPicPr/>
          <p:nvPr/>
        </p:nvPicPr>
        <p:blipFill>
          <a:blip r:embed="rId2"/>
          <a:stretch/>
        </p:blipFill>
        <p:spPr>
          <a:xfrm>
            <a:off x="91440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4173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lgtng-hits-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lightnin"/>
          <p:cNvPicPr/>
          <p:nvPr/>
        </p:nvPicPr>
        <p:blipFill>
          <a:blip r:embed="rId1"/>
          <a:stretch/>
        </p:blipFill>
        <p:spPr>
          <a:xfrm>
            <a:off x="609480" y="271440"/>
            <a:ext cx="8153640" cy="62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343400" y="1066680"/>
            <a:ext cx="4648320" cy="5562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517680" y="1103400"/>
            <a:ext cx="3749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his figure shows how a lightning rod can protect a house from a lightning strik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A metal rod is attached to the highest part of the building.  A conductor is connected from the metal rod to a metal plate in the 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If lightning strikes the rod, the conductor carries the negative charges safely into the 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Lightning R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j038110.wav" descr=""/>
          <p:cNvPicPr/>
          <p:nvPr/>
        </p:nvPicPr>
        <p:blipFill>
          <a:blip r:embed="rId2"/>
          <a:stretch/>
        </p:blipFill>
        <p:spPr>
          <a:xfrm>
            <a:off x="91440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08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june14tower.wmv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99172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4183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9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ncl-041004a.wmv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991720" cy="6743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9279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0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04:33:01Z</dcterms:created>
  <dc:creator>Demetrios Xeroulis</dc:creator>
  <dc:description/>
  <dc:language>en-US</dc:language>
  <cp:lastModifiedBy>RomaK</cp:lastModifiedBy>
  <dcterms:modified xsi:type="dcterms:W3CDTF">2015-09-03T12:29:56Z</dcterms:modified>
  <cp:revision>18</cp:revision>
  <dc:subject/>
  <dc:title>How Lightning Works  </dc:title>
</cp:coreProperties>
</file>